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34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3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16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6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866-E1F8-44E8-829F-D71D22BF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D0A-3803-4318-8E33-1133C44F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1DF-E44B-4295-BB20-1D7337FE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CD8-5015-45D0-8455-34F30B08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01E-734E-4152-A8D9-2056C169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DE8-8BA8-4646-B35C-EDBB2208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753-62EE-4734-AA0F-9AE2E502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A56-65D5-4DFB-BE24-362ABEC1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50D-CBF9-40B3-8F14-9E7147B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DE2-1FD6-4FF1-A24A-33E046B7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380-9038-465C-88D8-4FE83E8F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89D-922C-4907-9D20-2D7999E8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4ACF-001E-4F83-92B9-768259835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4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2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3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8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9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3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6"/>
          <p:cNvGraphicFramePr/>
          <p:nvPr/>
        </p:nvGraphicFramePr>
        <p:xfrm>
          <a:off x="357120" y="642960"/>
          <a:ext cx="7954920" cy="33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642960"/>
                    <a:ext cx="795492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Box 11"/>
          <p:cNvSpPr/>
          <p:nvPr/>
        </p:nvSpPr>
        <p:spPr>
          <a:xfrm>
            <a:off x="0" y="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作业讲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1143000" y="1285920"/>
          <a:ext cx="286848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285920"/>
                    <a:ext cx="28684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4"/>
          <p:cNvGraphicFramePr/>
          <p:nvPr/>
        </p:nvGraphicFramePr>
        <p:xfrm>
          <a:off x="1143000" y="2857680"/>
          <a:ext cx="261792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57680"/>
                    <a:ext cx="2617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5"/>
          <p:cNvGraphicFramePr/>
          <p:nvPr/>
        </p:nvGraphicFramePr>
        <p:xfrm>
          <a:off x="1071720" y="3857760"/>
          <a:ext cx="598788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3857760"/>
                    <a:ext cx="5987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357120" y="659520"/>
            <a:ext cx="835344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下列四个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空集没有子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;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空集是任何集合的真子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空集的元素个数为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任何一个集合必有两个以上的子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其中正确的个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      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0     B.1     C .2     D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43960" y="25876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0" y="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四、练习巩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0" y="139212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华文新魏"/>
                <a:ea typeface="华文新魏"/>
              </a:rPr>
              <a:t> 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动作按钮: 前进或下一项 8">
            <a:hlinkClick r:id="rId1" action="ppaction://hlinksldjump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0"/>
          <p:cNvGrpSpPr/>
          <p:nvPr/>
        </p:nvGrpSpPr>
        <p:grpSpPr>
          <a:xfrm>
            <a:off x="428760" y="692280"/>
            <a:ext cx="8535600" cy="1129320"/>
            <a:chOff x="428760" y="692280"/>
            <a:chExt cx="8535600" cy="1129320"/>
          </a:xfrm>
        </p:grpSpPr>
        <p:sp>
          <p:nvSpPr>
            <p:cNvPr id="173" name="Rectangle 17"/>
            <p:cNvSpPr/>
            <p:nvPr/>
          </p:nvSpPr>
          <p:spPr>
            <a:xfrm>
              <a:off x="428760" y="874440"/>
              <a:ext cx="8535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、设集合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=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=0}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=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=0}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，若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求实数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的值组成的集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4" name="Object 18"/>
            <p:cNvGraphicFramePr/>
            <p:nvPr/>
          </p:nvGraphicFramePr>
          <p:xfrm>
            <a:off x="7901280" y="692280"/>
            <a:ext cx="888480" cy="93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01280" y="692280"/>
                      <a:ext cx="88848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6" name="Object 3"/>
          <p:cNvGraphicFramePr/>
          <p:nvPr/>
        </p:nvGraphicFramePr>
        <p:xfrm>
          <a:off x="500040" y="2214720"/>
          <a:ext cx="5357880" cy="32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535788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Box 11"/>
          <p:cNvSpPr/>
          <p:nvPr/>
        </p:nvSpPr>
        <p:spPr>
          <a:xfrm>
            <a:off x="0" y="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四、练习巩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动作按钮: 前进或下一项 6">
            <a:hlinkClick r:id="rId5" action="ppaction://hlinksldjump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79360" y="533160"/>
            <a:ext cx="8613720" cy="1136880"/>
            <a:chOff x="279360" y="533160"/>
            <a:chExt cx="8613720" cy="1136880"/>
          </a:xfrm>
        </p:grpSpPr>
        <p:sp>
          <p:nvSpPr>
            <p:cNvPr id="181" name="Rectangle 9"/>
            <p:cNvSpPr/>
            <p:nvPr/>
          </p:nvSpPr>
          <p:spPr>
            <a:xfrm>
              <a:off x="279360" y="533160"/>
              <a:ext cx="861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、已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=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|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-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或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&gt;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=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}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若     ，则实数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的取值范围是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_______________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Object 12"/>
            <p:cNvGraphicFramePr/>
            <p:nvPr/>
          </p:nvGraphicFramePr>
          <p:xfrm>
            <a:off x="822240" y="736560"/>
            <a:ext cx="854280" cy="93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2240" y="736560"/>
                      <a:ext cx="85428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4" name="Text Box 10"/>
          <p:cNvSpPr/>
          <p:nvPr/>
        </p:nvSpPr>
        <p:spPr>
          <a:xfrm>
            <a:off x="4643280" y="1700280"/>
            <a:ext cx="38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</a:rPr>
              <a:t>{</a:t>
            </a:r>
            <a:r>
              <a:rPr b="1" i="1" lang="en-US" sz="4000" spc="-1" strike="noStrike">
                <a:solidFill>
                  <a:srgbClr val="cc0099"/>
                </a:solidFill>
                <a:latin typeface="Times New Roman"/>
              </a:rPr>
              <a:t>a|a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≤-5</a:t>
            </a:r>
            <a:r>
              <a:rPr b="0" lang="zh-CN" sz="4000" spc="-1" strike="noStrike">
                <a:solidFill>
                  <a:srgbClr val="cc0099"/>
                </a:solidFill>
                <a:latin typeface="Arial"/>
              </a:rPr>
              <a:t>或</a:t>
            </a:r>
            <a:r>
              <a:rPr b="1" i="1" lang="en-US" sz="4000" spc="-1" strike="noStrike">
                <a:solidFill>
                  <a:srgbClr val="cc0099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≥5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0" y="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四、练习巩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4"/>
          <p:cNvSpPr/>
          <p:nvPr/>
        </p:nvSpPr>
        <p:spPr>
          <a:xfrm>
            <a:off x="571680" y="1259640"/>
            <a:ext cx="8143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作业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12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习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1    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    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预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等式补充材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0" y="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六、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195120" y="2170080"/>
          <a:ext cx="8785440" cy="57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2170080"/>
                    <a:ext cx="8785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"/>
          <p:cNvGraphicFramePr/>
          <p:nvPr/>
        </p:nvGraphicFramePr>
        <p:xfrm>
          <a:off x="195120" y="3129120"/>
          <a:ext cx="8785440" cy="144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" y="3129120"/>
                    <a:ext cx="87854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"/>
          <p:cNvGraphicFramePr/>
          <p:nvPr/>
        </p:nvGraphicFramePr>
        <p:xfrm>
          <a:off x="195120" y="4952880"/>
          <a:ext cx="8774280" cy="1143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120" y="4952880"/>
                    <a:ext cx="8774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195120" y="189000"/>
          <a:ext cx="8785440" cy="57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189000"/>
                    <a:ext cx="8785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3"/>
          <p:cNvGraphicFramePr/>
          <p:nvPr/>
        </p:nvGraphicFramePr>
        <p:xfrm>
          <a:off x="195120" y="838080"/>
          <a:ext cx="8785440" cy="57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" y="838080"/>
                    <a:ext cx="8785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4"/>
          <p:cNvGraphicFramePr/>
          <p:nvPr/>
        </p:nvGraphicFramePr>
        <p:xfrm>
          <a:off x="195120" y="1447920"/>
          <a:ext cx="8785440" cy="895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120" y="1447920"/>
                    <a:ext cx="87854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195120" y="2438280"/>
          <a:ext cx="8785440" cy="573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" y="2438280"/>
                    <a:ext cx="8785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195120" y="3200400"/>
          <a:ext cx="8785440" cy="5731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5120" y="3200400"/>
                    <a:ext cx="8785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195120" y="3981600"/>
          <a:ext cx="8785440" cy="8953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5120" y="3981600"/>
                    <a:ext cx="87854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195120" y="152280"/>
          <a:ext cx="8785440" cy="144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152280"/>
                    <a:ext cx="878544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"/>
          <p:cNvGraphicFramePr/>
          <p:nvPr/>
        </p:nvGraphicFramePr>
        <p:xfrm>
          <a:off x="195120" y="1752480"/>
          <a:ext cx="8785440" cy="93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" y="1752480"/>
                    <a:ext cx="87854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4"/>
          <p:cNvGraphicFramePr/>
          <p:nvPr/>
        </p:nvGraphicFramePr>
        <p:xfrm>
          <a:off x="3778200" y="1930320"/>
          <a:ext cx="8785440" cy="573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8200" y="1930320"/>
                    <a:ext cx="8785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5"/>
          <p:cNvGraphicFramePr/>
          <p:nvPr/>
        </p:nvGraphicFramePr>
        <p:xfrm>
          <a:off x="195120" y="2819520"/>
          <a:ext cx="8785440" cy="573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" y="2819520"/>
                    <a:ext cx="8785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6"/>
          <p:cNvGraphicFramePr/>
          <p:nvPr/>
        </p:nvGraphicFramePr>
        <p:xfrm>
          <a:off x="195120" y="3483000"/>
          <a:ext cx="8785440" cy="9367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5120" y="3483000"/>
                    <a:ext cx="87854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7"/>
          <p:cNvGraphicFramePr/>
          <p:nvPr/>
        </p:nvGraphicFramePr>
        <p:xfrm>
          <a:off x="195120" y="4532400"/>
          <a:ext cx="8785440" cy="5731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1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5120" y="4532400"/>
                    <a:ext cx="8785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Object 2"/>
          <p:cNvGraphicFramePr/>
          <p:nvPr/>
        </p:nvGraphicFramePr>
        <p:xfrm>
          <a:off x="195120" y="152280"/>
          <a:ext cx="8785440" cy="114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152280"/>
                    <a:ext cx="8785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3"/>
          <p:cNvGraphicFramePr/>
          <p:nvPr/>
        </p:nvGraphicFramePr>
        <p:xfrm>
          <a:off x="195120" y="1371600"/>
          <a:ext cx="8785440" cy="57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" y="1371600"/>
                    <a:ext cx="8785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4"/>
          <p:cNvGraphicFramePr/>
          <p:nvPr/>
        </p:nvGraphicFramePr>
        <p:xfrm>
          <a:off x="195120" y="1981080"/>
          <a:ext cx="8785440" cy="895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120" y="1981080"/>
                    <a:ext cx="87854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5"/>
          <p:cNvGraphicFramePr/>
          <p:nvPr/>
        </p:nvGraphicFramePr>
        <p:xfrm>
          <a:off x="195120" y="2971800"/>
          <a:ext cx="8785440" cy="573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" y="2971800"/>
                    <a:ext cx="8785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6"/>
          <p:cNvGraphicFramePr/>
          <p:nvPr/>
        </p:nvGraphicFramePr>
        <p:xfrm>
          <a:off x="195120" y="3600360"/>
          <a:ext cx="8785440" cy="895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5120" y="3600360"/>
                    <a:ext cx="87854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195120" y="4591080"/>
          <a:ext cx="8785440" cy="8953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5120" y="4591080"/>
                    <a:ext cx="87854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85840" y="7632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、子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0"/>
          <p:cNvGraphicFramePr/>
          <p:nvPr/>
        </p:nvGraphicFramePr>
        <p:xfrm>
          <a:off x="358920" y="704880"/>
          <a:ext cx="8362800" cy="20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704880"/>
                    <a:ext cx="836280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3"/>
          <p:cNvGraphicFramePr/>
          <p:nvPr/>
        </p:nvGraphicFramePr>
        <p:xfrm>
          <a:off x="214200" y="3075120"/>
          <a:ext cx="817740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3075120"/>
                    <a:ext cx="81774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9"/>
          <p:cNvGraphicFramePr/>
          <p:nvPr/>
        </p:nvGraphicFramePr>
        <p:xfrm>
          <a:off x="142920" y="5003640"/>
          <a:ext cx="8772480" cy="11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920" y="5003640"/>
                    <a:ext cx="877248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5"/>
          <p:cNvGraphicFramePr/>
          <p:nvPr/>
        </p:nvGraphicFramePr>
        <p:xfrm>
          <a:off x="357120" y="795240"/>
          <a:ext cx="8429760" cy="165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795240"/>
                    <a:ext cx="84297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8"/>
          <p:cNvSpPr/>
          <p:nvPr/>
        </p:nvSpPr>
        <p:spPr>
          <a:xfrm>
            <a:off x="285840" y="76320"/>
            <a:ext cx="51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、两个集合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13"/>
          <p:cNvGraphicFramePr/>
          <p:nvPr/>
        </p:nvGraphicFramePr>
        <p:xfrm>
          <a:off x="1576440" y="2452680"/>
          <a:ext cx="55544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2452680"/>
                    <a:ext cx="5554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9"/>
          <p:cNvSpPr/>
          <p:nvPr/>
        </p:nvSpPr>
        <p:spPr>
          <a:xfrm>
            <a:off x="428760" y="1522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、真子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10"/>
          <p:cNvGraphicFramePr/>
          <p:nvPr/>
        </p:nvGraphicFramePr>
        <p:xfrm>
          <a:off x="571680" y="909720"/>
          <a:ext cx="754056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09720"/>
                    <a:ext cx="754056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8"/>
          <p:cNvGraphicFramePr/>
          <p:nvPr/>
        </p:nvGraphicFramePr>
        <p:xfrm>
          <a:off x="500040" y="2133720"/>
          <a:ext cx="328788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133720"/>
                    <a:ext cx="32878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9"/>
          <p:cNvGraphicFramePr/>
          <p:nvPr/>
        </p:nvGraphicFramePr>
        <p:xfrm>
          <a:off x="3857760" y="2133720"/>
          <a:ext cx="3855960" cy="104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7760" y="2133720"/>
                    <a:ext cx="385596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8"/>
          <p:cNvSpPr/>
          <p:nvPr/>
        </p:nvSpPr>
        <p:spPr>
          <a:xfrm>
            <a:off x="2056680" y="3219480"/>
            <a:ext cx="40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思考：子集和真子集有什么区别和联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134440" y="4267080"/>
            <a:ext cx="45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请用适当符号，表示出常用数集之间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285840" y="6048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雅坊美工14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、空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85840" y="1258560"/>
            <a:ext cx="92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把不含任何元素的集合叫做空集，记作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规定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空集是任何集合的子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8"/>
          <p:cNvGraphicFramePr/>
          <p:nvPr/>
        </p:nvGraphicFramePr>
        <p:xfrm>
          <a:off x="7786800" y="1197000"/>
          <a:ext cx="5000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1197000"/>
                    <a:ext cx="5000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3"/>
          <p:cNvGraphicFramePr/>
          <p:nvPr/>
        </p:nvGraphicFramePr>
        <p:xfrm>
          <a:off x="71280" y="2643120"/>
          <a:ext cx="557388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" y="2643120"/>
                    <a:ext cx="55738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Box 11"/>
          <p:cNvSpPr/>
          <p:nvPr/>
        </p:nvSpPr>
        <p:spPr>
          <a:xfrm>
            <a:off x="0" y="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二、新课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7"/>
          <p:cNvGraphicFramePr/>
          <p:nvPr/>
        </p:nvGraphicFramePr>
        <p:xfrm>
          <a:off x="5715000" y="2616120"/>
          <a:ext cx="2233440" cy="5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616120"/>
                    <a:ext cx="22334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5"/>
          <p:cNvGraphicFramePr/>
          <p:nvPr/>
        </p:nvGraphicFramePr>
        <p:xfrm>
          <a:off x="4929120" y="3214800"/>
          <a:ext cx="262908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9120" y="3214800"/>
                    <a:ext cx="2629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9"/>
          <p:cNvGraphicFramePr/>
          <p:nvPr/>
        </p:nvGraphicFramePr>
        <p:xfrm>
          <a:off x="7929720" y="2643120"/>
          <a:ext cx="685800" cy="4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29720" y="2643120"/>
                    <a:ext cx="685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0"/>
          <p:cNvGraphicFramePr/>
          <p:nvPr/>
        </p:nvGraphicFramePr>
        <p:xfrm>
          <a:off x="7572240" y="3270240"/>
          <a:ext cx="685800" cy="4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72240" y="3270240"/>
                    <a:ext cx="685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11"/>
          <p:cNvGraphicFramePr/>
          <p:nvPr/>
        </p:nvGraphicFramePr>
        <p:xfrm>
          <a:off x="195120" y="3962520"/>
          <a:ext cx="8774280" cy="13064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87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5120" y="3962520"/>
                    <a:ext cx="8774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13"/>
          <p:cNvGraphicFramePr/>
          <p:nvPr/>
        </p:nvGraphicFramePr>
        <p:xfrm>
          <a:off x="647640" y="714240"/>
          <a:ext cx="60674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714240"/>
                    <a:ext cx="60674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7"/>
          <p:cNvSpPr/>
          <p:nvPr/>
        </p:nvSpPr>
        <p:spPr>
          <a:xfrm>
            <a:off x="0" y="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二、新课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714240" y="2590920"/>
          <a:ext cx="4878360" cy="92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2590920"/>
                    <a:ext cx="48783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7"/>
          <p:cNvGraphicFramePr/>
          <p:nvPr/>
        </p:nvGraphicFramePr>
        <p:xfrm>
          <a:off x="714240" y="4624560"/>
          <a:ext cx="6102360" cy="44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4624560"/>
                    <a:ext cx="6102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0"/>
          <p:cNvGraphicFramePr/>
          <p:nvPr/>
        </p:nvGraphicFramePr>
        <p:xfrm>
          <a:off x="714240" y="1938240"/>
          <a:ext cx="8120160" cy="490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4240" y="1938240"/>
                    <a:ext cx="812016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1"/>
          <p:cNvGraphicFramePr/>
          <p:nvPr/>
        </p:nvGraphicFramePr>
        <p:xfrm>
          <a:off x="642960" y="3571920"/>
          <a:ext cx="8120160" cy="1065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2960" y="3571920"/>
                    <a:ext cx="8120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2"/>
          <p:cNvSpPr/>
          <p:nvPr/>
        </p:nvSpPr>
        <p:spPr>
          <a:xfrm>
            <a:off x="642960" y="533880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空集是任何非空集合的真子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7"/>
          <p:cNvGraphicFramePr/>
          <p:nvPr/>
        </p:nvGraphicFramePr>
        <p:xfrm>
          <a:off x="3500280" y="3098880"/>
          <a:ext cx="15973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098880"/>
                    <a:ext cx="15973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Box 15"/>
          <p:cNvSpPr/>
          <p:nvPr/>
        </p:nvSpPr>
        <p:spPr>
          <a:xfrm>
            <a:off x="0" y="857160"/>
            <a:ext cx="214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华文新魏"/>
                <a:ea typeface="华文新魏"/>
              </a:rPr>
              <a:t> 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0" y="2463840"/>
            <a:ext cx="214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华文新魏"/>
                <a:ea typeface="华文新魏"/>
              </a:rPr>
              <a:t> 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0" y="4392720"/>
            <a:ext cx="214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华文新魏"/>
                <a:ea typeface="华文新魏"/>
              </a:rPr>
              <a:t> 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7286760" y="4214880"/>
          <a:ext cx="1027080" cy="119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86760" y="4214880"/>
                    <a:ext cx="102708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357120" y="725400"/>
            <a:ext cx="43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雅坊美工14"/>
              </a:rPr>
              <a:t>5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、三个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0"/>
          <p:cNvGraphicFramePr/>
          <p:nvPr/>
        </p:nvGraphicFramePr>
        <p:xfrm>
          <a:off x="512640" y="1368360"/>
          <a:ext cx="8142480" cy="70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1368360"/>
                    <a:ext cx="8142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1"/>
          <p:cNvGraphicFramePr/>
          <p:nvPr/>
        </p:nvGraphicFramePr>
        <p:xfrm>
          <a:off x="357120" y="1871640"/>
          <a:ext cx="8137440" cy="107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871640"/>
                    <a:ext cx="81374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303120" y="2778120"/>
            <a:ext cx="74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集是任何非空集合的真子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0" y="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二、新课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554040" y="3962520"/>
          <a:ext cx="8742240" cy="1317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4040" y="3962520"/>
                    <a:ext cx="874224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5"/>
          <p:cNvSpPr/>
          <p:nvPr/>
        </p:nvSpPr>
        <p:spPr>
          <a:xfrm>
            <a:off x="357120" y="8953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宋体"/>
                <a:ea typeface="华文宋体"/>
              </a:rPr>
              <a:t>例</a:t>
            </a:r>
            <a:r>
              <a:rPr b="1" lang="en-US" sz="2800" spc="-1" strike="noStrike">
                <a:solidFill>
                  <a:srgbClr val="c00000"/>
                </a:solidFill>
                <a:latin typeface="华文宋体"/>
                <a:ea typeface="华文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写出集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{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}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所有子集，并指出哪些是它的真子集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04920" y="1832040"/>
            <a:ext cx="848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黑体"/>
              </a:rPr>
              <a:t>分析：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黑体"/>
              </a:rPr>
              <a:t>写子集时先写不含任何元素的集合，再写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黑体"/>
              </a:rPr>
              <a:t>个元素构成的集合，再写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黑体"/>
              </a:rPr>
              <a:t>个，依此类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50920" y="3168720"/>
            <a:ext cx="79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集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{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}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所有子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23"/>
          <p:cNvGraphicFramePr/>
          <p:nvPr/>
        </p:nvGraphicFramePr>
        <p:xfrm>
          <a:off x="4932360" y="3124080"/>
          <a:ext cx="57636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3124080"/>
                    <a:ext cx="5763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4"/>
          <p:cNvSpPr/>
          <p:nvPr/>
        </p:nvSpPr>
        <p:spPr>
          <a:xfrm>
            <a:off x="6805080" y="3181320"/>
            <a:ext cx="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华文宋体"/>
              </a:rPr>
              <a:t>a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华文宋体"/>
              </a:rPr>
              <a:t>,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华文宋体"/>
              </a:rPr>
              <a:t>b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3132000" y="3743280"/>
            <a:ext cx="30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真子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6"/>
          <p:cNvGraphicFramePr/>
          <p:nvPr/>
        </p:nvGraphicFramePr>
        <p:xfrm>
          <a:off x="4840200" y="3736800"/>
          <a:ext cx="585720" cy="6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0200" y="3736800"/>
                    <a:ext cx="585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7"/>
          <p:cNvSpPr/>
          <p:nvPr/>
        </p:nvSpPr>
        <p:spPr>
          <a:xfrm>
            <a:off x="5292720" y="375588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{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华文宋体"/>
              </a:rPr>
              <a:t>a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5970240" y="375588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{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2411280" y="4334040"/>
            <a:ext cx="42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非空真子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5017680" y="4334040"/>
            <a:ext cx="7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华文宋体"/>
              </a:rPr>
              <a:t>a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5695920" y="433404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{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5454360" y="318132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,{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  <a:ea typeface="华文宋体"/>
              </a:rPr>
              <a:t>a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6132240" y="3181320"/>
            <a:ext cx="7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{b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0" y="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三、例题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动作按钮: 前进或下一项 16">
            <a:hlinkClick r:id="rId5" action="ppaction://hlinksldjump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158840" y="214200"/>
          <a:ext cx="7128000" cy="5193000"/>
        </p:xfrm>
        <a:graphic>
          <a:graphicData uri="http://schemas.openxmlformats.org/drawingml/2006/table">
            <a:tbl>
              <a:tblPr/>
              <a:tblGrid>
                <a:gridCol w="2158920"/>
                <a:gridCol w="1657440"/>
                <a:gridCol w="1666800"/>
                <a:gridCol w="164484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集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集合元素　　　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集合子集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集合真子集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｛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宋体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｛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宋体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宋体"/>
                        </a:rPr>
                        <a:t>,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宋体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｛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宋体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宋体"/>
                        </a:rPr>
                        <a:t>,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宋体"/>
                        </a:rPr>
                        <a:t>b,c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｛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宋体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宋体"/>
                        </a:rPr>
                        <a:t>,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宋体"/>
                        </a:rPr>
                        <a:t>b,c,d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 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个元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Object 50"/>
              <p:cNvSpPr txBox="1"/>
              <p:nvPr/>
            </p:nvSpPr>
            <p:spPr>
              <a:xfrm>
                <a:off x="1951200" y="1293840"/>
                <a:ext cx="534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51"/>
          <p:cNvSpPr/>
          <p:nvPr/>
        </p:nvSpPr>
        <p:spPr>
          <a:xfrm>
            <a:off x="3317760" y="1300320"/>
            <a:ext cx="1657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2"/>
          <p:cNvSpPr/>
          <p:nvPr/>
        </p:nvSpPr>
        <p:spPr>
          <a:xfrm>
            <a:off x="3317760" y="1879560"/>
            <a:ext cx="1657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3"/>
          <p:cNvSpPr/>
          <p:nvPr/>
        </p:nvSpPr>
        <p:spPr>
          <a:xfrm>
            <a:off x="3317760" y="2473200"/>
            <a:ext cx="1657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4"/>
          <p:cNvSpPr/>
          <p:nvPr/>
        </p:nvSpPr>
        <p:spPr>
          <a:xfrm>
            <a:off x="3317760" y="3067200"/>
            <a:ext cx="1657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5"/>
          <p:cNvSpPr/>
          <p:nvPr/>
        </p:nvSpPr>
        <p:spPr>
          <a:xfrm>
            <a:off x="3317760" y="3646440"/>
            <a:ext cx="16574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3317760" y="4237200"/>
            <a:ext cx="1657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7"/>
          <p:cNvSpPr/>
          <p:nvPr/>
        </p:nvSpPr>
        <p:spPr>
          <a:xfrm>
            <a:off x="3317760" y="4824360"/>
            <a:ext cx="16574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8"/>
          <p:cNvSpPr/>
          <p:nvPr/>
        </p:nvSpPr>
        <p:spPr>
          <a:xfrm>
            <a:off x="4986360" y="1300320"/>
            <a:ext cx="1657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9"/>
          <p:cNvSpPr/>
          <p:nvPr/>
        </p:nvSpPr>
        <p:spPr>
          <a:xfrm>
            <a:off x="6638760" y="1300320"/>
            <a:ext cx="16448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4986360" y="1879560"/>
            <a:ext cx="1657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1"/>
          <p:cNvSpPr/>
          <p:nvPr/>
        </p:nvSpPr>
        <p:spPr>
          <a:xfrm>
            <a:off x="4986360" y="2473200"/>
            <a:ext cx="1657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2"/>
          <p:cNvSpPr/>
          <p:nvPr/>
        </p:nvSpPr>
        <p:spPr>
          <a:xfrm>
            <a:off x="4986360" y="3067200"/>
            <a:ext cx="1657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3"/>
          <p:cNvSpPr/>
          <p:nvPr/>
        </p:nvSpPr>
        <p:spPr>
          <a:xfrm>
            <a:off x="4986360" y="3646440"/>
            <a:ext cx="16574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4"/>
          <p:cNvSpPr/>
          <p:nvPr/>
        </p:nvSpPr>
        <p:spPr>
          <a:xfrm>
            <a:off x="4986360" y="4237200"/>
            <a:ext cx="1657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5"/>
          <p:cNvSpPr/>
          <p:nvPr/>
        </p:nvSpPr>
        <p:spPr>
          <a:xfrm>
            <a:off x="4986360" y="4824360"/>
            <a:ext cx="1657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6"/>
          <p:cNvSpPr/>
          <p:nvPr/>
        </p:nvSpPr>
        <p:spPr>
          <a:xfrm>
            <a:off x="6643800" y="1879560"/>
            <a:ext cx="16351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6643800" y="2473200"/>
            <a:ext cx="16351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8"/>
          <p:cNvSpPr/>
          <p:nvPr/>
        </p:nvSpPr>
        <p:spPr>
          <a:xfrm>
            <a:off x="6643800" y="3067200"/>
            <a:ext cx="16351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6643800" y="3646440"/>
            <a:ext cx="16351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0"/>
          <p:cNvSpPr/>
          <p:nvPr/>
        </p:nvSpPr>
        <p:spPr>
          <a:xfrm>
            <a:off x="6643800" y="4237200"/>
            <a:ext cx="16351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1"/>
          <p:cNvSpPr/>
          <p:nvPr/>
        </p:nvSpPr>
        <p:spPr>
          <a:xfrm>
            <a:off x="6643800" y="4824360"/>
            <a:ext cx="16351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73"/>
          <p:cNvGraphicFramePr/>
          <p:nvPr/>
        </p:nvGraphicFramePr>
        <p:xfrm>
          <a:off x="1203480" y="4821120"/>
          <a:ext cx="207000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4821120"/>
                    <a:ext cx="20700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4"/>
          <p:cNvGraphicFramePr/>
          <p:nvPr/>
        </p:nvGraphicFramePr>
        <p:xfrm>
          <a:off x="92160" y="5572080"/>
          <a:ext cx="883764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160" y="5572080"/>
                    <a:ext cx="883764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6491160" y="5459400"/>
          <a:ext cx="65268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91160" y="5459400"/>
                    <a:ext cx="6526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"/>
          <p:cNvGraphicFramePr/>
          <p:nvPr/>
        </p:nvGraphicFramePr>
        <p:xfrm>
          <a:off x="2928960" y="6072120"/>
          <a:ext cx="9777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6072120"/>
                    <a:ext cx="977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0"/>
          <p:cNvGraphicFramePr/>
          <p:nvPr/>
        </p:nvGraphicFramePr>
        <p:xfrm>
          <a:off x="7756560" y="6000840"/>
          <a:ext cx="110160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56560" y="6000840"/>
                    <a:ext cx="11016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00:47:29Z</dcterms:created>
  <dc:creator>资料来源：淘宝店铺：日出分享（有效店铺）或者  日出教育（有效店铺）    
更新更多资料请加ＱＱ２２８４７１８３００
微信：17728178930
微信不常用，建议加QQ
店铺链接：https://shop152652799.taobao.com/shop/view_shop.htm?tracelog=twddp&amp;user_number_id=1741707622
或者：https://shop112180859.taobao.com/shop/view_shop.htm?spm=a313o.7775905.a1zvx.d53.vrIcCV&amp;mytmenu=mdianpu&amp;user_number_id=2160821148
</dc:creator>
  <dc:description>资料来源：淘宝店铺：日出分享（有效店铺）或者  日出教育（有效店铺）    
更新更多资料请加ＱＱ２２８４７１８３００
微信：17728178930
微信不常用，建议加QQ
店铺链接：https://shop152652799.taobao.com/shop/view_shop.htm?tracelog=twddp&amp;user_number_id=1741707622
或者：https://shop112180859.taobao.com/shop/view_shop.htm?spm=a313o.7775905.a1zvx.d53.vrIcCV&amp;mytmenu=mdianpu&amp;user_number_id=2160821148
</dc:description>
  <cp:keywords>资料来源：淘宝店铺：日出分享（有效店铺）或者  日出教育（有效店铺）    
更新更多资料请加ＱＱ２２８４７１８３００
微信：17728178930
微信不常用，建议加QQ
店铺链接：https://shop152652799.taobao.com/shop/view_shop.htm?tracelog=twddp&amp;user_number_id=1741707622
或者：https://shop112180859.taobao.com/shop/view_shop.htm?spm=a313o.7775905.a1zvx.d53.vrIcCV&amp;mytmenu=mdianpu&amp;user_number_id=2160821148
</cp:keywords>
  <dc:language>en-US</dc:language>
  <cp:lastModifiedBy>Windows 用户</cp:lastModifiedBy>
  <dcterms:modified xsi:type="dcterms:W3CDTF">2017-07-23T13:58:04Z</dcterms:modified>
  <cp:revision>7</cp:revision>
  <dc:subject>资料来源：淘宝店铺：日出分享（有效店铺）或者  日出教育（有效店铺）    
更新更多资料请加ＱＱ２２８４７１８３００
微信：17728178930
微信不常用，建议加QQ
店铺链接：https://shop152652799.taobao.com/shop/view_shop.htm?tracelog=twddp&amp;user_number_id=1741707622
或者：https://shop112180859.taobao.com/shop/view_shop.htm?spm=a313o.7775905.a1zvx.d53.vrIcCV&amp;mytmenu=mdianpu&amp;user_number_id=2160821148
</dc:subject>
  <dc:title>资料来源：淘宝店铺：日出分享（有效店铺）或者  日出教育（有效店铺）    
更新更多资料请加ＱＱ２２８４７１８３００
微信：17728178930
微信不常用，建议加QQ
店铺链接：https://shop152652799.taobao.com/shop/view_shop.htm?tracelog=twddp&amp;user_number_id=1741707622
或者：https://shop112180859.taobao.com/shop/view_shop.htm?spm=a313o.7775905.a1zvx.d53.vrIcCV&amp;mytmenu=mdianpu&amp;user_number_id=2160821148
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